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6918-CA03-44E3-8CF8-4235F9C0E6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3D8E-EC9F-4FAC-A38D-BE82F3CB0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A8C0-3866-43A6-93E4-3A60A198AC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CA1A-A52A-45D1-87A8-B52A42F952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AAA0-2E6E-4F0E-9B88-ADB3A63387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FFAB-D779-4396-9082-90648F0ECF7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E62D-EEDD-4D85-A5EF-F454EA5893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6FA6-22DE-4375-B13E-8092ADCA162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5DFC-0FD6-4E2F-A27B-EB2F147F2D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19019-6206-42C2-9F8A-7F9EFCC281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DE6C-E8D1-4E7D-9348-765808AE2C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B6CB-14BE-46E3-A996-5A3ABC73C5B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9281-9282-4859-8ED7-CFB5AA5EDB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F23F-68D5-493B-8D45-097C22A7A6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0117-CBF4-4174-935F-988A0AA6DC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5B8E-47E6-41CA-AEC7-1991767A3D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938C-05AD-4A33-9D48-92D1991814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37A7-964E-4A41-A524-E6DE80528F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A7519-1E22-4ACF-B17F-8ED82E372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7BFE2-22DE-4CDA-B81A-5AF3BA329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625F0-DF04-4484-B10B-F5565BE9F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DB313-A5E5-43D9-9B62-175ACA387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7BE12-E31B-450B-A8AA-43ABC027E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55690-D819-4EAB-8930-1C8A077B2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F2CBE-17C3-40D6-A427-CA22ABED6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12D19-1837-417C-9CF8-1668012FD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CA39F-CB51-435F-A718-23FA9B9FF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8F37E-79AA-4D40-AF9C-DF9952185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421CA-BA7C-41F4-9068-5E1518058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64ABB-D996-4C48-80DF-54D6C7F2B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AE081-BCD5-4484-9BDB-5651746E228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760 h 909720"/>
              <a:gd name="textAreaBottom" fmla="*/ 593640 h 909720"/>
            </a:gdLst>
            <a:ahLst/>
            <a:rect l="textAreaLeft" t="textAreaTop" r="textAreaRight" b="textAreaBottom"/>
            <a:pathLst>
              <a:path w="21600" h="21600">
                <a:moveTo>
                  <a:pt x="21600" y="0"/>
                </a:moveTo>
                <a:arcTo wR="21600" hR="7545" stAng="-5400000" swAng="-5400000"/>
                <a:lnTo>
                  <a:pt x="0" y="10324"/>
                </a:lnTo>
                <a:arcTo wR="21600" hR="7545" stAng="10800000" swAng="-2072284"/>
                <a:lnTo>
                  <a:pt x="11825" y="20783"/>
                </a:lnTo>
                <a:lnTo>
                  <a:pt x="21600" y="16479"/>
                </a:lnTo>
                <a:lnTo>
                  <a:pt x="11825" y="10540"/>
                </a:lnTo>
                <a:lnTo>
                  <a:pt x="11825" y="14272"/>
                </a:lnTo>
                <a:arcTo wR="21600" hR="7545" stAng="8727716" swAng="1847610"/>
                <a:lnTo>
                  <a:pt x="369" y="8934"/>
                </a:lnTo>
                <a:arcTo wR="21600" hR="7545" stAng="-10575326" swAng="5175326"/>
                <a:close/>
              </a:path>
              <a:path fill="darkenLess" w="21600" h="21600">
                <a:moveTo>
                  <a:pt x="21600" y="0"/>
                </a:moveTo>
                <a:arcTo wR="21600" hR="7545" stAng="-5400000" swAng="-5400000"/>
                <a:lnTo>
                  <a:pt x="0" y="7545"/>
                </a:lnTo>
                <a:arcTo wR="21600" hR="7545" stAng="10800000" swAng="-224674"/>
                <a:lnTo>
                  <a:pt x="369" y="8934"/>
                </a:lnTo>
                <a:arcTo wR="21600" hR="7545" stAng="-10575326" swAng="517532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62" hR="21600" stAng="10800000" swAng="5400000"/>
                <a:lnTo>
                  <a:pt x="12047" y="0"/>
                </a:lnTo>
                <a:arcTo wR="7062" hR="21600" stAng="-5400000" swAng="3101922"/>
                <a:lnTo>
                  <a:pt x="21376" y="16200"/>
                </a:lnTo>
                <a:lnTo>
                  <a:pt x="16616" y="21600"/>
                </a:lnTo>
                <a:lnTo>
                  <a:pt x="11407" y="16200"/>
                </a:lnTo>
                <a:lnTo>
                  <a:pt x="13899" y="16200"/>
                </a:lnTo>
                <a:arcTo wR="7062" hR="21600" stAng="-2298078" swAng="-2680069"/>
                <a:lnTo>
                  <a:pt x="9554" y="1390"/>
                </a:lnTo>
                <a:arcTo wR="7062" hR="21600" stAng="-5821853" swAng="-4978147"/>
                <a:close/>
              </a:path>
              <a:path fill="darkenLess" w="21600" h="21600">
                <a:moveTo>
                  <a:pt x="0" y="21600"/>
                </a:moveTo>
                <a:arcTo wR="7062" hR="21600" stAng="10800000" swAng="5400000"/>
                <a:lnTo>
                  <a:pt x="7062" y="0"/>
                </a:lnTo>
                <a:arcTo wR="7062" hR="21600" stAng="-5400000" swAng="421853"/>
                <a:lnTo>
                  <a:pt x="9554" y="1390"/>
                </a:lnTo>
                <a:arcTo wR="7062" hR="21600" stAng="-5821853" swAng="-497814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CAZZARRI</cp:lastModifiedBy>
  <dcterms:modified xsi:type="dcterms:W3CDTF">2012-09-05T21:14:21Z</dcterms:modified>
  <cp:revision>112</cp:revision>
  <dc:subject/>
  <dc:title>Slide 1</dc:title>
</cp:coreProperties>
</file>